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1B31-031A-4F13-BD60-97E2E950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E69D-A8D8-497A-AD06-0638F362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85713-FF37-4793-B90E-E5E66C05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7742C-91FE-4A33-8990-531AF04CD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B90B1-F60D-4BFA-BB20-D8DFF5D7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D1B4-11CC-4F49-ACBE-A93C9461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30FF-B281-4150-8560-954BDAEF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43A10-F060-4F16-B3C0-108F7D50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C18C-23EE-4CA9-86E6-50539FF4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122C-EA70-4791-99CA-A8D86C92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37D3-954A-42B0-931A-B2552D7A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172B-EE85-4B69-92B7-A1CDD65C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930B-8FB9-45AD-A66C-08FA9583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2347-E83C-4CA9-92EE-05CF8D2B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6195-6A16-4FC3-96CB-CD186A27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AE3D-BE8C-462D-8682-9114253C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3431F-70A4-4F18-881A-AD79E0BC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A76E-889A-4F89-8C26-9236D4DB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DF34-FF2A-45CE-9C60-AA6633F3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3BE9D-1ED6-4F4C-95AB-F2EA1317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18986-0180-4AE8-9258-F7B78B43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015F8-EFE4-461E-8352-D75B9A37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7BD6-58F7-48A4-9B16-031BC39B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10634-C5C0-4A64-8E9B-0948001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CC75-67F0-4B82-9184-DD9602D39D8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8188-39E3-4685-AAA0-9B2252931F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14280" y="4428720"/>
            <a:ext cx="7172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граммы и инструмен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то описание предполагает, что транслятор wavrasm правильно установлен на компьютер, на котором происходит раб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961640"/>
            <a:ext cx="3384360" cy="41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Логическ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обитовое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нарный мин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Умн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4572000" y="1413000"/>
            <a:ext cx="338472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ыч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ле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двиг впра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988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ньше ил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или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ра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4643280" y="177336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сключающе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битов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ическое 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765000"/>
            <a:ext cx="821844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80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CodeVision представляет собой кросс-компилятор языка С, графическую оболочку и автоматический генератор программ, ориентированные на работу с семейством микроконтроллеров AVR фирмы Atm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представляет собой 32-разрядное приложение для работы в операционных системах Windows 95, 98, NT4.0 и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45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ссемблер, формат программы на ассембле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илятор язык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CodeVision AV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00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ссембл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микроконтроллеров семейства AVR имеется свободно распространяемый транслятор ассемблера — wavrasm. Также одновременно с транслятором ассемблера устанавливается программа для отладки программ на языке ассемблера для микроконтроллеров семейства AV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она заметно уступает свободно распространяемому фирмой Atmel отладчику AVR Studio, поэтому ее мы рассматривать не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353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Формат программы на ассембле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560" y="1773000"/>
            <a:ext cx="8137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директива [аргументы директив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[метка:] мнемоника команды [аргументы команды] [комментарий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стая ст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496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рифметические и логическ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условных и безусловных переход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передачи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анды для работы с би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оманды микроконтрол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BYTE — резервирует 1 байт для использования в качестве переменн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SEG — сегмент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B — определяет байт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F — определяет символическое имя для регист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VICE — задает тип целевого микроконтроллер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SEG — сегмент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W — определяет слово-констант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NDMACRO — конец определения макро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QU — сопоставляет символьному имени арифметическое выра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рективы транслятора ассембл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SEG — сегмент EEPRO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EXIT — выйти из файла (конец текста программы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 — загрузить исходный текст из другого фай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 — в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ISTMAC — включить печать содержимого макросов в листинг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RO — начать определение макро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LIST — выключить генерацию листинг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ORG — установить располож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ET — сопоставить символу выраж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3628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семблер позволяет использовать в тексте программы выра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и могут содержать операнды, операции и фун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ражения имеют разрядность 32 би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еран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2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переменные, определенные с помощью директивы SE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нстанты, определенные с помощью директивы EQ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целые констант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есятичные (по умолчанию): 10, 25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шестнадцатеричные (два вида записи): ОхОа, $0а, Oxff, $f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двоичные: 000000 1010, 00 111111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коды символов ASCII: 'A', 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строки ASCII (без нуля в конце строки): «String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C — текущее значение счетчика команд в памяти програм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20Z</dcterms:modified>
  <cp:revision>10</cp:revision>
  <dc:subject/>
  <dc:title>Микропроцессорные системы</dc:title>
</cp:coreProperties>
</file>